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369-3AEB-46B8-B01F-F5B756AC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56624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91D-B96B-4ACF-B31B-23828F9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054-2FD6-486C-A9F2-E588E8FE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9D9-3C32-485C-9714-964F09A7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C360-4110-4FF0-A01E-560D24BE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5D72-7BBD-43DA-94C8-0A913F4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A3AE-9824-4E8E-93D4-2D144F1B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1D81-2FC0-46EB-BCEC-7DA7A8ED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653-89F6-486E-9D31-0733DD2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1B2-6C2F-4B7B-A77A-49F3FB8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428-8A41-455C-8B26-35B0E07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7C4-D074-44AD-B6BD-B714FFF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5A3A-872F-4AB0-A203-ECC1840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BAB-7FD9-4BFF-8F12-5BCEDC5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56624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51A4-3501-47B6-925C-541A9D3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281-22BC-4480-867E-BCB3E83C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51051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56624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DCCA-2E61-48DD-9A3D-3D5E3406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9EC-B62B-447E-9CFA-E7F95F60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7E2-B887-4F8D-A81F-17EF173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61A-0FE5-4528-806A-CA5BDC2B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DD2-633D-48F6-88F4-E490B5B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07A-0C2C-4D7F-803A-1601BE6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56624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174-EC27-4EC4-8EA3-93CB159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51051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56624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F67-A48D-4673-8ACF-77ADDD7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000-591D-4AF0-9056-20961F598A6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05E1-B3D2-45AF-8A0D-9ED67B03465B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ff00"/>
                </a:solidFill>
                <a:latin typeface="Trebuchet MS"/>
              </a:rPr>
              <a:t>American Television:</a:t>
            </a:r>
            <a:br>
              <a:rPr sz="4800"/>
            </a:br>
            <a:r>
              <a:rPr b="0" i="1" lang="en-US" sz="4800" spc="-1" strike="noStrike">
                <a:solidFill>
                  <a:srgbClr val="f2ff00"/>
                </a:solidFill>
                <a:latin typeface="Trebuchet MS"/>
              </a:rPr>
              <a:t>1970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Created By: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Alex Miller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ALL IN THE FAMIL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alt with many controversial issues including: racism, homosexuality, women’s liberation, rape, menopause and many m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d many spin-off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n for 8 seas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fter All in the Family, it turned into Archie Bunker’s Pla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mous Episode: Sammy Davis Jr. visits and gives Archie a kis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278136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ff00"/>
                </a:solidFill>
                <a:latin typeface="Trebuchet MS"/>
              </a:rPr>
              <a:t>Fi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1067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“</a:t>
            </a: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Those were the Days…”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“</a:t>
            </a: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Movin’ on up… to the east side…”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“</a:t>
            </a:r>
            <a:r>
              <a:rPr b="0" i="1" lang="en-US" sz="2800" spc="-1" strike="noStrike">
                <a:solidFill>
                  <a:srgbClr val="f2ff00"/>
                </a:solidFill>
                <a:latin typeface="Trebuchet MS"/>
              </a:rPr>
              <a:t>And then there’s Maude…”</a:t>
            </a: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Land of the Los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ildren’s TV Sho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reated by Sid &amp; Marty Kroff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bout A Family who went rafting and ended up in the Land of the Lo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y met Dinosaurs, Sleestaks and mor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n from 1974-197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de into a 2009 Movie (sucked!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10080" y="2786040"/>
            <a:ext cx="33530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The Mary Tyler Moore Show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out Mary Rich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ves to Minneapol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 at WJM-T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an For 7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t Toss” Fam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10080" y="3046320"/>
            <a:ext cx="33530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Movin’ on Up: The Jeffers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cused on a Black Fam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in-off from All in The Fami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orge and Louise “Wheezy” Jeffers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orge became successful Dryclea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d a maid: Florence Johnst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33526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…</a:t>
            </a: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The Jeffersons…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5120" y="411444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me a huge success: lasted 11 Seasons, longer than All in the Fami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nown for the quarrels between George and Loui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51160" y="1981080"/>
            <a:ext cx="246060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37320" y="1981080"/>
            <a:ext cx="2697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And then there’s MAUDE!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62360" y="198108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MAU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pin-off from All in the Famil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cused on Maude, an out-spoken Liberal Democr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arried to her 4th husband, Walt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est Known Episode: Maude’s Dilemma.. Maude gets pregnant and tearfully, gets and Abortion, which shook the world of Televis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asted 6 Seas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od’ll get you for that!”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s spin-off had its own spin-off: GOOD TIM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383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f00"/>
                </a:solidFill>
                <a:latin typeface="Trebuchet MS"/>
              </a:rPr>
              <a:t>ALL IN THE FAMIL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 controversial show… probably ever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ives of Archie Bunker and his wife Edith Bunk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yone watching could relate to Archie in one way or anoth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rchie was bigoted, racist and ru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rchie Bunker was voted the #1 Tv Character of All 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2400" y="1981080"/>
            <a:ext cx="330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1:03:20Z</dcterms:created>
  <dc:creator>School District Richland</dc:creator>
  <dc:description/>
  <dc:language>en-US</dc:language>
  <cp:lastModifiedBy>School District Richland</cp:lastModifiedBy>
  <dcterms:modified xsi:type="dcterms:W3CDTF">2010-05-21T01:29:19Z</dcterms:modified>
  <cp:revision>3</cp:revision>
  <dc:subject/>
  <dc:title>American Television: 1970</dc:title>
</cp:coreProperties>
</file>